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06CE-9C23-4AD6-82D7-F8748C9C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BFB5-9ED2-424B-9BF0-9D0EC293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0B7D-8BD0-457C-9691-69D9BF11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89DB-6D51-4CB5-9C3C-A0593BA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3258-3125-4694-A9EB-EF24ADC1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15C-9E24-4E32-98C4-204F136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5E9-93E9-4E89-B0D2-AAAFD609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91C0-4BA8-415D-B21F-4D574E55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6A67-C637-4687-BB91-E8C4E33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7E13-8810-4402-9844-43748F2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B85-57A8-4A4D-8C29-4393466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7E76-CC83-461E-9AF8-7562D67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EDE-8527-4292-9C60-BAF3E41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BEF0-63D4-4A4C-9B2D-894C1E4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76F8-31D3-4C0A-8392-90EC078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A8E7-1D82-4AB1-8C01-B89200B9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4DF-CDA3-4E38-B3D3-E18032D8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C450-1952-4044-989C-2D096D77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567E-438D-4060-A23D-8FC6FBAA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FCB8-3A08-4CF2-BD91-6F773672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0342-5A94-477E-A914-EA2EC338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3B6A-9465-44E6-BBD1-5EC88EF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74A8-D1E8-404F-A0F5-3C1E66C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B69B-9536-42BF-B83E-E3A4401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ADB-E514-43C7-AE81-97DCC0A0E8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29F8-F74E-4A26-8ECE-31F55A87F0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8353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IOGRAF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“La identidad y la alteridad en las formas poéticas arábigoandalusas: jaryas y , muwasha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humada Peña, Haydée. “De amor y de dolor. Mujeres, sentimientos en las jarchas y abencerrajes”. En Cyber Humanitatis,  N°11, (Invierno 199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Jessica Castro y Raquel Villalobos. “Poesía femenina hispanoárabe del siglo XII: imagen de un equívoco”. En  Cyber Humanitatis Nº 39 (Invierno 2006)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 “Encuentros y desencuentros en los romances fronterizos y morisc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drade Daneri, Claudia. </a:t>
            </a: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El Abencerraje y los Romances, dos lecturas de la España del siglo XVI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. En Cyber Humanitatis, N°40, (Primavera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artínez Iniesta, Bautista. “Crónica poética de la Reconquista de Granada y  antología del Romancero Fronterizo”. En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Google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01:44Z</dcterms:created>
  <dc:creator> </dc:creator>
  <dc:description/>
  <dc:language>en-US</dc:language>
  <cp:lastModifiedBy> </cp:lastModifiedBy>
  <dcterms:modified xsi:type="dcterms:W3CDTF">2007-10-15T20:36:08Z</dcterms:modified>
  <cp:revision>4</cp:revision>
  <dc:subject/>
  <dc:title>Diapositiva 1</dc:title>
</cp:coreProperties>
</file>